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621588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2CD5-1F23-4FDD-9C05-6C1F3BA32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4E51-A23B-477B-897B-7855C9BB5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BECE-5084-4C36-BB15-01E830513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7643-EC4C-4AE7-8966-17042DEEC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F388-873E-4B5A-B773-0C56794134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0506-408D-4EFA-897B-311B84DB56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F21B-72FC-4DB2-BC12-8EC4C6E3DE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356B-B6E4-4406-A30B-B06268C60A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C061-148C-44B6-B6EF-566F524FA4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3DE6-93A9-4D24-AD94-E67D6A8249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B93D-29E8-4DF9-9BF3-1DA598AF7B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60B7-3CBF-4E86-9348-245DAEB84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14D7-8A4F-4A9F-9821-D784C517D3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65EA-F3B8-4317-A125-D5D28A5EC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474E-4D5A-4B7C-9EE5-C8DD2ADAE3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672F-9166-4333-9590-520F85B68A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BF0B-1193-45E5-9D27-A7CD6D0C1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2967-52CE-43FE-A57E-CC94CF5FD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0BC4-9B9A-4DBD-9E7A-2774BA602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FFD1-D891-4E30-AC94-DEA63D80A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0C36-3D49-4B12-B172-050466E89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8421-A774-4851-A83B-8DFD99C89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AAFC-EAFE-4BCC-BEB5-266230663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A3DA-506B-47E5-9C86-4DD4EAFF2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78E7-3D78-46B8-91EA-BA5687FF8D4A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Google Shape;36;p10"/>
          <p:cNvSpPr/>
          <p:nvPr/>
        </p:nvSpPr>
        <p:spPr>
          <a:xfrm>
            <a:off x="3809880" y="0"/>
            <a:ext cx="3810240" cy="76201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58C7-FD8C-42CE-A272-2DF2E1BAB9B8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oogle Shape;54;p1" descr="Google Shape;54;p1"/>
          <p:cNvPicPr/>
          <p:nvPr/>
        </p:nvPicPr>
        <p:blipFill>
          <a:blip r:embed="rId1"/>
          <a:stretch/>
        </p:blipFill>
        <p:spPr>
          <a:xfrm>
            <a:off x="419040" y="330120"/>
            <a:ext cx="6782040" cy="659124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55;p1" descr=""/>
          <p:cNvPicPr/>
          <p:nvPr/>
        </p:nvPicPr>
        <p:blipFill>
          <a:blip r:embed="rId2"/>
          <a:stretch/>
        </p:blipFill>
        <p:spPr>
          <a:xfrm>
            <a:off x="0" y="0"/>
            <a:ext cx="7620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7030a0"/>
                </a:solidFill>
                <a:latin typeface="Arial"/>
              </a:rPr>
              <a:t>Model Mente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In Profil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urple/violet circle and select “Send to Back”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Now that the photo is on top, right-click the photo and select “Change Picture” or “Replace Image”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any photo from your device (preferably a 1:1 ratio, squared photo)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Adjust the image so your face is framed nicely within the "Model Mentee" frame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hoto and select “Send to Back” to bring the frame back on top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"File &gt; Export” and export it as a PNG or JPG image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Upload to LinkedIn as your new profile image!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nessa Nobre</cp:lastModifiedBy>
  <dcterms:modified xsi:type="dcterms:W3CDTF">2021-11-08T12:36:07Z</dcterms:modified>
  <cp:revision>2</cp:revision>
  <dc:subject/>
  <dc:title>PowerPoint Presentation</dc:title>
</cp:coreProperties>
</file>