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64C9-DEF9-4812-9979-241E33AF1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95CA-9601-4E7B-9C6A-8BD2E9125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3057-2FC2-4C7D-8E09-993492A86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CDB2-61EA-4393-8C64-4BF749621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5B2D-18C4-4E6F-9ACA-B82B6239D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A482-8226-45E1-8784-F17CEBC033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F1C2-3C78-4469-980B-66ED44AE53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FC04-5A0A-4ADD-BF96-92494B89B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EE48-2C59-488B-BB36-14B0587A10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04300-1822-4B21-AC70-A6AB33C28E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6D9C-9586-4408-AFA4-060F01F0A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5415-FB1D-4394-8DF5-A6031449B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164E-8532-41E7-B9D0-207F9CEC1B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D388-E30D-481E-8BCE-6516DCF81B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F3CD-CA90-4757-80CC-9B14F4C924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63C9-3602-45D4-B703-7487E8F475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2546-9C34-4286-8793-BF71B152A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081A-578F-402A-B831-B34D18244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2F62-4A19-450A-9561-D02734409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93EA-938B-4E5E-BA01-9DE440377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5495-30E4-4FFE-A0D7-05AB12A37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9C0C-640D-4EAA-A8A7-76ECEE214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63F4-8A64-4970-8C8B-2F0524F7F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726F-C95C-45AB-B149-D95215743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F12F-44B4-465C-B098-150BEB2E7D47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Google Shape;36;p10"/>
          <p:cNvSpPr/>
          <p:nvPr/>
        </p:nvSpPr>
        <p:spPr>
          <a:xfrm>
            <a:off x="3809880" y="0"/>
            <a:ext cx="3810240" cy="76201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C35-4BF2-4782-AAC1-3ED7B43F299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oogle Shape;54;p1" descr="Google Shape;54;p1"/>
          <p:cNvPicPr/>
          <p:nvPr/>
        </p:nvPicPr>
        <p:blipFill>
          <a:blip r:embed="rId1"/>
          <a:stretch/>
        </p:blipFill>
        <p:spPr>
          <a:xfrm>
            <a:off x="419040" y="330120"/>
            <a:ext cx="6782040" cy="659124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55;p1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7030a0"/>
                </a:solidFill>
                <a:latin typeface="Arial"/>
              </a:rPr>
              <a:t>Model Mente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In Profil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urple/violet circle and select “Send to Back”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Now that the photo is on top, right-click the photo and select “Change Picture” or “Replace Image”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any photo from your device (preferably a 1:1 ratio, squared photo)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Adjust the image so your face is framed nicely within the "Model Mentee" frame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hoto and select “Send to Back” to bring the frame back on top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"File &gt; Export” and export it as a PNG or JPG image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Upload to LinkedIn as your new profile image!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essa Nobre</cp:lastModifiedBy>
  <dcterms:modified xsi:type="dcterms:W3CDTF">2021-11-08T12:36:07Z</dcterms:modified>
  <cp:revision>2</cp:revision>
  <dc:subject/>
  <dc:title>PowerPoint Presentation</dc:title>
</cp:coreProperties>
</file>