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621588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D013-556A-4462-8F83-49A70A512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4C69-F235-4687-8B93-DC329BA7C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6DBF-6ECC-4FDC-B900-84A04BD48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076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08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02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66076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0608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2933-D5F9-4CDD-8104-3588B0B4C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09E35-D156-420E-9868-5B64D00506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B7D5-828C-456A-AE80-21D35BFC52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A18E-D423-4C30-BD5D-35DB295095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33C7-6E72-4E1C-A0B6-982341DB16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3DCF-C58D-47F2-8A4D-6F81A4618B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0280" y="658440"/>
            <a:ext cx="70992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47AE-FD17-497E-AA7E-EEC92BF177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8464-CEFF-4366-BA92-E6D7BE145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76DC-2615-499E-B452-C3B56FD19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6F75-684C-4D03-9573-AD629992B6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A1CB-32AC-440B-9C2B-031CF61EF9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1861-9855-4F25-A45A-D5E0380644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8C0B-E8F6-41F9-AD4E-648666982A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6076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0880" y="170820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02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66076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60880" y="4351680"/>
            <a:ext cx="228564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28A2-EE44-42E3-A707-D4ACFB992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3D7B-8C55-4964-B3ED-64C1660FF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F9DF-AD3C-4975-8CA2-38662ADE6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375F-BBFE-4D04-B9C5-45CAB2FB8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0280" y="658440"/>
            <a:ext cx="70992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936E-1A2A-4655-AA7F-124A54A54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C8D6-C61E-41C3-9757-3522DFD2B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98080" y="435168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EDFF-E1BC-4C43-B726-B5C956A54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8080" y="1708200"/>
            <a:ext cx="346428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0280" y="4351680"/>
            <a:ext cx="7099200" cy="241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72AB-3EC5-4128-8E72-65BFED686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0047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461960" indent="-407880">
              <a:lnSpc>
                <a:spcPct val="115000"/>
              </a:lnSpc>
              <a:buClr>
                <a:srgbClr val="59595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919160" indent="-40788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3763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79840" y="7032240"/>
            <a:ext cx="336600" cy="33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0FC7-0350-41CF-9645-987A5E374243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Google Shape;36;p10"/>
          <p:cNvSpPr/>
          <p:nvPr/>
        </p:nvSpPr>
        <p:spPr>
          <a:xfrm>
            <a:off x="3809880" y="0"/>
            <a:ext cx="3810240" cy="76201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0047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2" marL="1461960" indent="-407880">
              <a:lnSpc>
                <a:spcPct val="115000"/>
              </a:lnSpc>
              <a:buClr>
                <a:srgbClr val="59595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3" marL="1919160" indent="-407880">
              <a:lnSpc>
                <a:spcPct val="115000"/>
              </a:lnSpc>
              <a:buClr>
                <a:srgbClr val="59595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376360" indent="-407880">
              <a:lnSpc>
                <a:spcPct val="115000"/>
              </a:lnSpc>
              <a:buClr>
                <a:srgbClr val="595959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5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6" marL="2376360" indent="-407880">
              <a:lnSpc>
                <a:spcPct val="115000"/>
              </a:lnSpc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7179840" y="7032240"/>
            <a:ext cx="336600" cy="335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2812-61B8-4E68-87D1-A5DF7A5FF00F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Google Shape;54;p1" descr="Google Shape;54;p1"/>
          <p:cNvPicPr/>
          <p:nvPr/>
        </p:nvPicPr>
        <p:blipFill>
          <a:blip r:embed="rId1"/>
          <a:stretch/>
        </p:blipFill>
        <p:spPr>
          <a:xfrm>
            <a:off x="419040" y="330120"/>
            <a:ext cx="6782040" cy="659124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55;p1" descr=""/>
          <p:cNvPicPr/>
          <p:nvPr/>
        </p:nvPicPr>
        <p:blipFill>
          <a:blip r:embed="rId2"/>
          <a:stretch/>
        </p:blipFill>
        <p:spPr>
          <a:xfrm>
            <a:off x="0" y="0"/>
            <a:ext cx="7620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0280" y="658440"/>
            <a:ext cx="7099200" cy="849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7030a0"/>
                </a:solidFill>
                <a:latin typeface="Arial"/>
              </a:rPr>
              <a:t>Model Mente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In Profil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0280" y="1708200"/>
            <a:ext cx="7099200" cy="5060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Right-click the purple/violet circle and select “Send to Back”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Now that the photo is on top, right-click the photo and select “Change Picture” or “Replace Image”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Select any photo from your device (preferably a 1:1 ratio, squared photo)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Adjust the image so your face is framed nicely within the "Model Mentee" frame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Right-click the photo and select “Send to Back” to bring the frame back on top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Select "File &gt; Export” and export it as a PNG or JPG image.</a:t>
            </a:r>
            <a:br>
              <a:rPr sz="1600"/>
            </a:b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457200" indent="-342720">
              <a:lnSpc>
                <a:spcPct val="115000"/>
              </a:lnSpc>
              <a:buClr>
                <a:srgbClr val="7030a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595959"/>
                </a:solidFill>
                <a:latin typeface="Arial"/>
              </a:rPr>
              <a:t>Upload to LinkedIn as your new profile image!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nessa Nobre</cp:lastModifiedBy>
  <dcterms:modified xsi:type="dcterms:W3CDTF">2021-11-08T12:36:07Z</dcterms:modified>
  <cp:revision>2</cp:revision>
  <dc:subject/>
  <dc:title>PowerPoint Presentation</dc:title>
</cp:coreProperties>
</file>