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621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F8D8D-4EC7-4CA0-99D7-408526B36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93CA-A0E8-48E9-8C8C-2D51FA678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EB46-4DD6-4279-B5BC-F7DFB3854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7305-940B-4F55-A077-D969039F4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4554-154D-49EB-8DB1-91793549FF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5905-BCCE-41BD-A71C-FF37A0E75A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3DA8-7564-41AF-B0DB-38BDB5D33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DE12-4A2C-4C03-A72C-25447920B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9360-CB05-4D8A-8333-F35E3836E2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8146-B607-4395-A861-760F6668A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35702-29B0-4540-A0CA-E009B5B18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E225-1D84-48FC-8D38-973D2CB28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BE00-8A20-4202-AA7D-6400E5C7F2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C79F-AA68-4DB9-A49C-7E460B7750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7A77-929C-4451-807E-75578FB68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DB4B-2FF3-4700-8235-6FD6143142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C348-2BCC-46F9-B77A-6E6AD7EC0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58D1-1666-4632-81E4-5543C04F5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6365-D15B-4B91-BCF4-0ABD7C99E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FCA1-A2A5-43D9-8527-A7B42B660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78C2-33EB-469E-A7AC-73E62CA83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38D1-6B06-4557-AD38-E6C4720CF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D928-D853-4399-ACE2-5023609A7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F277-C18B-4098-9814-9F610229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005-4868-4A56-85D3-F8591C486CC1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Google Shape;36;p10"/>
          <p:cNvSpPr/>
          <p:nvPr/>
        </p:nvSpPr>
        <p:spPr>
          <a:xfrm>
            <a:off x="3809880" y="0"/>
            <a:ext cx="3810240" cy="76201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2CF6-A3CF-4EA5-A93A-A522AEC5A69E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oogle Shape;54;p1" descr="Google Shape;54;p1"/>
          <p:cNvPicPr/>
          <p:nvPr/>
        </p:nvPicPr>
        <p:blipFill>
          <a:blip r:embed="rId1"/>
          <a:stretch/>
        </p:blipFill>
        <p:spPr>
          <a:xfrm>
            <a:off x="419040" y="330120"/>
            <a:ext cx="6782040" cy="659124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55;p1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7030a0"/>
                </a:solidFill>
                <a:latin typeface="Arial"/>
              </a:rPr>
              <a:t>Model Mente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In Profil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urple/violet circle and select “Send to Back”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Now that the photo is on top, right-click the photo and select “Change Picture” or “Replace Image”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any photo from your device (preferably a 1:1 ratio, squared photo)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Adjust the image so your face is framed nicely within the "Model Mentee" frame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hoto and select “Send to Back” to bring the frame back on top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"File &gt; Export” and export it as a PNG or JPG image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Upload to LinkedIn as your new profile image!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essa Nobre</cp:lastModifiedBy>
  <dcterms:modified xsi:type="dcterms:W3CDTF">2021-11-08T12:36:07Z</dcterms:modified>
  <cp:revision>2</cp:revision>
  <dc:subject/>
  <dc:title>PowerPoint Presentation</dc:title>
</cp:coreProperties>
</file>