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621588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2C061-D100-45D8-A03A-9C57E1373A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709920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0280" y="4351680"/>
            <a:ext cx="709920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9B6CB-BB49-48AB-B3D2-62AE97B6A5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0280" y="435168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898080" y="435168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BC0C6-FCB7-4BDC-83FE-4A97D16454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60760" y="170820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60880" y="170820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0280" y="435168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660760" y="435168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060880" y="435168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CB130-60B7-4AC8-AEED-D78136DDBF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BCCB8-0BF9-4A4A-8298-A74DD26E16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60280" y="1708200"/>
            <a:ext cx="70992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5266E-E7C5-4C13-AC93-91DCEFF933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709920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A8A1E-0E51-4505-B4E1-396953A455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71969-7CCC-4160-94BF-38E8E3E820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49B2F-9745-4AE1-813E-4A22A6400F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60280" y="658440"/>
            <a:ext cx="70992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D2E50-0BC4-40B0-8066-EAD1B4D2D4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60280" y="435168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B5F60-9FCA-4B7A-B432-1F42EEAE75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0280" y="1708200"/>
            <a:ext cx="70992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6E02C-30B0-416F-856B-36DC40A754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98080" y="435168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E4EEE-8431-4974-95E6-8648D5D0D8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60280" y="4351680"/>
            <a:ext cx="709920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0B336-3C67-4F1B-B26F-2876B86A88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709920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60280" y="4351680"/>
            <a:ext cx="709920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FF3C5-85D1-496C-94FE-FEF25E9093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0280" y="435168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3898080" y="435168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56CE5-EADB-43DF-BE6A-B2B0929D18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660760" y="170820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60880" y="170820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60280" y="435168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660760" y="435168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060880" y="435168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F53B8-E010-44CA-A4BA-67101E3CC4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709920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E0579-60C5-4BDC-91CC-34F25942E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8024E-BFF4-44C0-8AE4-14D25BBAB0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9BACF-BFBA-410C-A073-334079FB5E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60280" y="658440"/>
            <a:ext cx="70992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FCA05-24F8-4670-91F2-5DD5F027F0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0280" y="435168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07444-720D-47E7-B826-7926E89ADE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98080" y="435168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3A596-5B3A-4387-BEB8-CB867B93DE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0280" y="4351680"/>
            <a:ext cx="709920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FE55D-309B-4645-AC47-268654BFA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0280" y="1708200"/>
            <a:ext cx="709920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lnSpc>
                <a:spcPct val="115000"/>
              </a:lnSpc>
              <a:buClr>
                <a:srgbClr val="59595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1004760" indent="-407880">
              <a:lnSpc>
                <a:spcPct val="115000"/>
              </a:lnSpc>
              <a:buClr>
                <a:srgbClr val="595959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2" marL="1461960" indent="-407880">
              <a:lnSpc>
                <a:spcPct val="115000"/>
              </a:lnSpc>
              <a:buClr>
                <a:srgbClr val="59595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3" marL="1919160" indent="-407880">
              <a:lnSpc>
                <a:spcPct val="115000"/>
              </a:lnSpc>
              <a:buClr>
                <a:srgbClr val="59595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4" marL="2376360" indent="-407880">
              <a:lnSpc>
                <a:spcPct val="115000"/>
              </a:lnSpc>
              <a:buClr>
                <a:srgbClr val="595959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5" marL="2376360" indent="-407880">
              <a:lnSpc>
                <a:spcPct val="115000"/>
              </a:lnSpc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6" marL="2376360" indent="-407880">
              <a:lnSpc>
                <a:spcPct val="115000"/>
              </a:lnSpc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179840" y="7032240"/>
            <a:ext cx="336600" cy="335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E8B7-C590-4CD1-88C2-A3AE57BC2707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Google Shape;36;p10"/>
          <p:cNvSpPr/>
          <p:nvPr/>
        </p:nvSpPr>
        <p:spPr>
          <a:xfrm>
            <a:off x="3809880" y="0"/>
            <a:ext cx="3810240" cy="762012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260280" y="1708200"/>
            <a:ext cx="709920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lnSpc>
                <a:spcPct val="115000"/>
              </a:lnSpc>
              <a:buClr>
                <a:srgbClr val="59595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1004760" indent="-407880">
              <a:lnSpc>
                <a:spcPct val="115000"/>
              </a:lnSpc>
              <a:buClr>
                <a:srgbClr val="595959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2" marL="1461960" indent="-407880">
              <a:lnSpc>
                <a:spcPct val="115000"/>
              </a:lnSpc>
              <a:buClr>
                <a:srgbClr val="59595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3" marL="1919160" indent="-407880">
              <a:lnSpc>
                <a:spcPct val="115000"/>
              </a:lnSpc>
              <a:buClr>
                <a:srgbClr val="59595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4" marL="2376360" indent="-407880">
              <a:lnSpc>
                <a:spcPct val="115000"/>
              </a:lnSpc>
              <a:buClr>
                <a:srgbClr val="595959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5" marL="2376360" indent="-407880">
              <a:lnSpc>
                <a:spcPct val="115000"/>
              </a:lnSpc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6" marL="2376360" indent="-407880">
              <a:lnSpc>
                <a:spcPct val="115000"/>
              </a:lnSpc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2"/>
          </p:nvPr>
        </p:nvSpPr>
        <p:spPr>
          <a:xfrm>
            <a:off x="7179840" y="7032240"/>
            <a:ext cx="336600" cy="335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F42B-88E4-4866-9245-52D79FDBDE81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Google Shape;54;p1" descr="Google Shape;54;p1"/>
          <p:cNvPicPr/>
          <p:nvPr/>
        </p:nvPicPr>
        <p:blipFill>
          <a:blip r:embed="rId1"/>
          <a:stretch/>
        </p:blipFill>
        <p:spPr>
          <a:xfrm>
            <a:off x="419040" y="330120"/>
            <a:ext cx="6782040" cy="6591240"/>
          </a:xfrm>
          <a:prstGeom prst="rect">
            <a:avLst/>
          </a:prstGeom>
          <a:ln w="0">
            <a:noFill/>
          </a:ln>
        </p:spPr>
      </p:pic>
      <p:pic>
        <p:nvPicPr>
          <p:cNvPr id="80" name="Google Shape;55;p1" descr=""/>
          <p:cNvPicPr/>
          <p:nvPr/>
        </p:nvPicPr>
        <p:blipFill>
          <a:blip r:embed="rId2"/>
          <a:stretch/>
        </p:blipFill>
        <p:spPr>
          <a:xfrm>
            <a:off x="0" y="0"/>
            <a:ext cx="7620120" cy="76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7030a0"/>
                </a:solidFill>
                <a:latin typeface="Arial"/>
              </a:rPr>
              <a:t>Model Mente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edIn Profile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709920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lnSpc>
                <a:spcPct val="115000"/>
              </a:lnSpc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Right-click the purple/violet circle and select “Send to Back”</a:t>
            </a:r>
            <a:br>
              <a:rPr sz="1600"/>
            </a:b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457200" indent="-342720">
              <a:lnSpc>
                <a:spcPct val="115000"/>
              </a:lnSpc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Now that the photo is on top, right-click the photo and select “Change Picture” or “Replace Image”.</a:t>
            </a:r>
            <a:br>
              <a:rPr sz="1600"/>
            </a:b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457200" indent="-342720">
              <a:lnSpc>
                <a:spcPct val="115000"/>
              </a:lnSpc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Select any photo from your device (preferably a 1:1 ratio, squared photo)</a:t>
            </a:r>
            <a:br>
              <a:rPr sz="1600"/>
            </a:b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457200" indent="-342720">
              <a:lnSpc>
                <a:spcPct val="115000"/>
              </a:lnSpc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Adjust the image so your face is framed nicely within the "Model Mentee" frame</a:t>
            </a:r>
            <a:br>
              <a:rPr sz="1600"/>
            </a:b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457200" indent="-342720">
              <a:lnSpc>
                <a:spcPct val="115000"/>
              </a:lnSpc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Right-click the photo and select “Send to Back” to bring the frame back on top.</a:t>
            </a:r>
            <a:br>
              <a:rPr sz="1600"/>
            </a:b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457200" indent="-342720">
              <a:lnSpc>
                <a:spcPct val="115000"/>
              </a:lnSpc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Select "File &gt; Export” and export it as a PNG or JPG image.</a:t>
            </a:r>
            <a:br>
              <a:rPr sz="1600"/>
            </a:b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457200" indent="-342720">
              <a:lnSpc>
                <a:spcPct val="115000"/>
              </a:lnSpc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Upload to LinkedIn as your new profile image!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nessa Nobre</cp:lastModifiedBy>
  <dcterms:modified xsi:type="dcterms:W3CDTF">2021-11-08T12:36:07Z</dcterms:modified>
  <cp:revision>2</cp:revision>
  <dc:subject/>
  <dc:title>PowerPoint Presentation</dc:title>
</cp:coreProperties>
</file>